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AA32-8BB9-4C00-8D87-23079F72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DD0-B45E-4A54-8C67-CE31919E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C476-68E9-4CD9-ABE7-2E09538F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91F-D582-40CB-B6E0-91E3C497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37B-4E77-4064-8C00-FC0DB845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2085-56BB-4398-BD7B-EC12FF9B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55C1-FFE3-4374-9759-A85325FA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3EA-3B55-47AC-BD83-AE4EF00B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6F9E-C010-4E90-B856-6F51D4C4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7D62-9184-442B-82DD-F9F9639DD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936-07FF-4594-ABFB-4BE4235D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8C8-924A-47C7-9782-9F6A855E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48B-557A-43FD-967E-1A9D28B5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A4B-8A18-47A0-A228-49D13245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B54-00AA-4B0E-BAF6-216F6C96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9EF-21F8-461E-A1C4-D35E53D3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D7D-9A65-4A5D-9F39-A70C6826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EC1-3397-4D2C-AB87-D314443F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9AA-1624-4CD5-84A6-E7AB604E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3A4-54DF-4519-AA75-EFA03A8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015-C6B0-4A12-A641-06C3499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7CC-D8FA-4423-A088-C2A5190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C2D-0CF5-42A5-B6B7-135DBDE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360-96FE-40A2-8198-E22F5F7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686-ACE1-40D8-80DE-6F59C335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509"/>
                </a:solidFill>
                <a:latin typeface="Arial"/>
              </a:rPr>
              <a:t>Tit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rbert Hoover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-325-quickfacts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over made 2 mistakes in addressing the problems of the Great 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passage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import duties of foreign goods to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ulsion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us Expeditionary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I veterans lobbied for early payment of benefits for their service but bill was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fused to leave &amp; squatted in empty government off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ver ordered the Army to expel them; cavalry attacked them with tear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ensured the loss of Hoover’s re-election &amp; the election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gued for a more interventionist gover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mised relief payments to unemploy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ugural address: Declared war on the Depr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The only thing we have to fear is fear itself nameless, unreasoning, unjustified fear.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sweeping reform called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w D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Listen to 1933 spee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757760" y="1905120"/>
            <a:ext cx="4386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1-322-map"/>
          <p:cNvPicPr/>
          <p:nvPr/>
        </p:nvPicPr>
        <p:blipFill>
          <a:blip r:embed="rId1"/>
          <a:stretch/>
        </p:blipFill>
        <p:spPr>
          <a:xfrm>
            <a:off x="0" y="0"/>
            <a:ext cx="4734000" cy="586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1-323-quickfacts"/>
          <p:cNvPicPr/>
          <p:nvPr/>
        </p:nvPicPr>
        <p:blipFill>
          <a:blip r:embed="rId2"/>
          <a:stretch/>
        </p:blipFill>
        <p:spPr>
          <a:xfrm>
            <a:off x="4844880" y="1981080"/>
            <a:ext cx="4299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1-330-closeup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pression had a calamitous effect on tens of millions of Americ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taken away when mortgage payments were no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less built shantytowns, sarcastically calle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vervil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1-326-image"/>
          <p:cNvPicPr/>
          <p:nvPr/>
        </p:nvPicPr>
        <p:blipFill>
          <a:blip r:embed="rId1"/>
          <a:stretch/>
        </p:blipFill>
        <p:spPr>
          <a:xfrm>
            <a:off x="3809880" y="3005280"/>
            <a:ext cx="5334120" cy="385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savings lost as thousands of banks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 went bankrupt or, to avoid bankruptcy, laid off the majority of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ral areas, farmers struggled as produce prices dropped more than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1-340-image"/>
          <p:cNvPicPr/>
          <p:nvPr/>
        </p:nvPicPr>
        <p:blipFill>
          <a:blip r:embed="rId2"/>
          <a:stretch/>
        </p:blipFill>
        <p:spPr>
          <a:xfrm>
            <a:off x="0" y="3048120"/>
            <a:ext cx="4038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1-329-quickfact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1-332-map"/>
          <p:cNvPicPr/>
          <p:nvPr/>
        </p:nvPicPr>
        <p:blipFill>
          <a:blip r:embed="rId1"/>
          <a:stretch/>
        </p:blipFill>
        <p:spPr>
          <a:xfrm>
            <a:off x="0" y="1447920"/>
            <a:ext cx="5638680" cy="4397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ake matters worse, a prolonged drought afflicted the Great Pl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5181480" cy="56386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 turned into a gi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st B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Agrarian un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hose who tried to evi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pired to keep their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ers’ Holiday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33520" y="49320"/>
            <a:ext cx="8610480" cy="6808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4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1-341-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11-342-visualsummar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56:28Z</dcterms:created>
  <dc:creator>Office:Mac User</dc:creator>
  <dc:description/>
  <dc:language>en-US</dc:language>
  <cp:lastModifiedBy>Sacerdote, Kevin R.</cp:lastModifiedBy>
  <dcterms:modified xsi:type="dcterms:W3CDTF">2017-01-12T13:27:49Z</dcterms:modified>
  <cp:revision>5</cp:revision>
  <dc:subject/>
  <dc:title>Title: Herbert Hoover and the Great Depression</dc:title>
</cp:coreProperties>
</file>